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CCD-1EA6-42B0-A31A-63E9BAB3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DDBA-679B-45B1-892B-52D67B9D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815-1A2F-4C1F-B69C-B1DC7569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899B-5F4A-4A50-8586-76444A54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58D6-AD26-4987-AC8B-AB335921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FCA5-75C9-4B27-840C-898A2246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8FE-E4E0-4B3E-B316-FD132C17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65C1-C7CD-4129-BCA4-E80AB8BA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70E0-F14C-465F-B3D3-973697B6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282-C981-4053-91EB-F6C623E3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C878-00DC-4E9F-B855-93935A95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9FA4-973C-43FA-8A36-60F4A452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C5D8-AD96-4BED-82AE-00FEE1689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Humphry D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Rocky Kess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on December 17, 1778 in Penzance, Cornwall,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father died in 179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y, in an effort to help support his family, became an apprentice to a surgeon-apothecary, J. Binghan Bor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to Electr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 Davy was the first to discover that different materials attract electrons better than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were ca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67280" y="2590920"/>
            <a:ext cx="3103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ibutions to Electronic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ain!!!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y eventually discovered magnesium, calcium, strontium, and barium in 18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is used to make spark plugs, and is used for coating fluorescent light bul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4383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ibutions to Electronic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More!!!!!!!!!!!!!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esium is used for combining metals and refine tit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um is used for constructing cement and mortar. It is also used for detecting 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ibutions to Electronic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the La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tium is used in studies of neurotransmitter release in neurons and in glass for colour television cathode ray tubes to prevent X-ray e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5:45:07Z</dcterms:created>
  <dc:creator>tstudentp</dc:creator>
  <dc:description/>
  <dc:language>en-US</dc:language>
  <cp:lastModifiedBy>tstudentp</cp:lastModifiedBy>
  <dcterms:modified xsi:type="dcterms:W3CDTF">2010-02-04T15:59:19Z</dcterms:modified>
  <cp:revision>2</cp:revision>
  <dc:subject/>
  <dc:title>Sir Humphry Davy</dc:title>
</cp:coreProperties>
</file>